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DB1A-280F-4300-8C92-4E61697E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8275-6A05-498E-8838-B455479F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2252-6146-416B-8CF3-6CDCCE3A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2441-A4BB-4FB8-BC18-60F199EB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A0CD-C3D8-4E70-8817-695E8163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431-E218-4C7A-9ED9-82A9F39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EDF2-A9F7-4345-8584-AFD85DA5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23E-DDF3-43CC-948D-DE39D8DC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7E6-0473-4307-8F4B-16DD88E6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7336-746D-49AA-A087-6D1D65C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9248-49B9-4B9D-8761-80786EE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6F6D-6996-47B5-B1AE-D447BB4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2142-108F-4A55-A78E-F3532F0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2A5-CC8D-45CC-89CA-888FCC4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479D-1CC3-4E89-94A7-CD8AAE9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D232-450E-44C6-82AB-116FB522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2007-EE61-4BC0-858F-F1DF5950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D010-6071-4F0B-BF22-8549BA9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EB37-94ED-49A9-9A17-650D10D7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146F-D6F6-4F57-83F4-AB25F1F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63BC-C490-464C-BE5B-0C6EA3F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2F96-C796-4AEA-A5B9-461B804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C3B4-9CF6-4B67-B657-C4CDEC6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9084-BC85-482A-9BBB-128588B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4C1-4C70-43FC-B910-FF13D5E1D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47D-BFC1-491D-BCE2-CBB0A51A7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プロモーションスペース等運営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40CC-579F-4A66-BB4F-00110489D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7T00:13:10Z</dcterms:created>
  <dc:creator/>
  <dc:description/>
  <dc:language>en-US</dc:language>
  <cp:lastModifiedBy/>
  <dcterms:modified xsi:type="dcterms:W3CDTF">2023-01-17T00:13:13Z</dcterms:modified>
  <cp:revision>1</cp:revision>
  <dc:subject/>
  <dc:title/>
</cp:coreProperties>
</file>